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618A-AA91-4A5A-864D-39BAE8F6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510-42C4-4951-B894-ADA580A5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4039B-B1F1-4032-A030-A8F85465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8F3161-0EBF-4FC8-A517-4C4EB9B6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C9246-9CD2-4976-A47E-3DDBABFF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90C953-BF4D-4D7D-93FD-50E8943B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CFE1FF-5129-4D22-BEDA-E9900639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1A6D2-6782-4638-9D6B-DAB44C6B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0CA1C9-3186-46DB-B246-86490341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60C8C-79C3-453C-A99F-7FDE08DD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FD5E00-F3E5-4836-B1CE-5C3F7953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B6E3D1-E93E-4D93-86C4-CDA2A0EE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FE3-EB19-49EE-B0EE-181C1E15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69EED4-89C6-463B-BDD8-F05E8849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F78817-23AB-40CC-8F1E-FE58BFA7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2BA550-742B-485A-8FF0-4B2EAB83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305203-9B13-4B1A-90DF-E2F8B959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87996E-B94C-4924-A4F1-BCF10AC1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74F409-94D4-4077-8FC1-C567E361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6F482C-BE52-4D24-B9D3-6B26B8ED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ED55FD-61AA-470F-9D76-05B9C930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02BAB-3269-4EB0-AF64-DEF2830A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EC9B39-242B-4ABD-B396-17A11BC0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8323-2D3D-4FB7-8274-18B69A1A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E185F-D70D-4129-9158-E261DC72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37406-1A95-426C-9D51-77787B30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7525F-DDC1-4EC4-B8DD-566B849D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E647E-7A38-4502-9AB1-FCD9DEF2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2517A-7D7F-4DD1-9C47-EB97F32F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2A1BF-5A67-4C38-B3DD-B797AEB4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0CBFB-8A56-4628-9316-53CE8662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625D3-516F-4417-AA68-202A724B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9363F-D6B9-46BC-AB8D-634F530C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6FB30-0723-45EC-AD49-75A462B0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2D26-CACC-4100-9A5E-22FAA38B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9842E-48B6-46D6-862E-C3EEA103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A7887-9416-4018-8FD3-335A7252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A59EF-D46A-4067-A1E2-AF41BC6C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EACB20-CFDF-4B8A-AA06-6A5103B2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D5D37D-37C1-4F92-8A9B-E352F400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CA807C-6904-4A98-BD1E-A1435F99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B5D68-56FC-41C9-B46F-A9D72A30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DC6387-525F-41E7-BC74-52E13D83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296A8C-FB03-4DBA-B3E4-3F856425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14749-CE22-4066-A170-F5B2ED16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77ED-8E6C-49CB-AED8-2FD99813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B81533-CDC7-4A11-9DBB-0A802C5C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7B0DF7-BCB7-42E7-86C0-493EED43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D4B1D0-0F4D-4B4A-BB42-8A72FE40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D6F04-1B4A-4C52-BD65-D413C072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80D41F-F00D-4F8A-BB64-2D46F85A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3C0C-DF54-4105-8B28-40AFF4B2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5D95-3A1F-42E9-BA16-2BFB0276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FC63-DDE6-424F-B1A1-48CB077B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C3C0-1B93-4BF6-9C05-5046D28B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F5F0-0D62-47C4-8592-69758D95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777E-0311-461E-9875-9AA37295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0E8A-AB57-4643-9520-F9F33539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D866-E513-4149-9BA8-5B62AFBF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F30F-1F3F-4E96-AA7D-D6C53D93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BB2B-DE54-47FD-A148-4E1A6C7E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D749-4CFF-4FB2-ADE2-F892E451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E7E5A-1D36-44D4-8ACB-CF5A572B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E34C5-058E-4324-8529-15FD7597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2D429-2CF4-4B08-BF1D-09EA847A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1825B-B901-4545-8B8D-5ED7E006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29748-400F-482E-A7D7-2D8D1CA8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1C17-B579-4BB9-BE6C-6602CD55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2C5BC-3DE0-4B06-B948-FC0F8446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436D2-D2B8-4875-9A1C-1C213833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9D2FB-8581-4569-A24C-61ACCA80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369BD-FAAA-4F63-9AAB-B8FA668E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309D2-4D7F-4548-93EE-D2CFB819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DB619-D106-49E8-81D8-FB1C67CB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BA8C0-C46D-4A40-9C09-BE5B83F5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D3D81-7645-49D8-8ACF-F50D1D2E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8FD0F-F50F-46E0-B4EA-00B62EEE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60832-F5AD-4D75-B9C6-11D81D17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F97-03B0-4584-AEBA-C61397B3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E9EFE-F1A0-4E46-AD51-8C3D56AA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D2E01-B980-4EA4-9776-BE1B4FBC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28945-7AE0-4EBE-BA15-E2DB1BA2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F7053-AD5B-4274-B10A-1B20100A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9CCC2-E916-4B7C-A5DF-9429E444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8D62F-FDB9-4D49-8B81-25537714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65E58-2BB7-4924-B772-C2CF5C15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14E56-DC05-4150-A51A-CF5EC6DD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5AD5E-DCCB-4391-AB73-6908A7E3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076F4-013D-4EDF-A529-8AEEFB11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1FF1-EE7D-44D5-B8E8-BC4D1567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A2D67-B834-4F58-B3F8-E602FCA9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1321A-2070-4551-821A-252A6124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275E6-3271-4874-8957-D226D49B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CC54A-037F-4B1B-BCE1-719C37AF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9915E-D110-4706-BE9C-3A21CA11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BC0EE-D059-4565-86F1-D397F4B0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A0236-19CE-4F7E-B8AE-B9E4E90C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1FDDF-00BD-455E-A74C-6787BB42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6E95B-B465-4457-AE77-1A21FD55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F1045-353F-4FDF-8ABF-E8EF1206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38B2-7A30-45BF-8676-9E10CB7A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934B3-26E5-4224-860C-6A45A82F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54091-BA8C-4514-B400-35826E4C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F0F55-4D3D-424A-BAC4-700E1A7F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11CAD-E871-4CBD-BAAA-33E7AE4D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68961-8C9C-411B-A0CB-A8BDE44E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A551E-B853-491E-A3C3-CA7F0974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963FB-7EF4-444B-A629-78A19C97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D3B83-CA37-4EE1-8118-7303BADC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2312E-0A21-4990-BCB9-0D9DDF1E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F0A53-940C-451A-A575-93F59931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C9C4-1EC9-4F63-929F-275BABF9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2727D-5D30-44A2-97FD-B7804DFC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F1D3B-CC12-4750-A946-78F9730B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DEB54-387D-4058-BE94-B8854CB4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39BC5-27AC-463F-97B2-2124947B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D3D76-54FE-4CF2-BEEF-2C351630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ACEB2-90A1-4C2D-9EA3-AF452ED8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C228F-E063-4F73-9463-F52EC974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0E54E-C748-4570-9B02-37920B34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F80BB-3E6E-4819-B135-4195ACCD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677E7-4370-4288-B891-6B4F69E5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2EE1-79A0-4995-BCA2-1FFBC4D3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A8BA1-68E9-4DE6-BCD2-3AC34109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CA09A-3E00-4476-8A94-1809785F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E3BFB-08A5-4D85-9387-56400882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B13A4-AB54-4D16-BBFE-343528C4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864CE-AB99-4977-B66F-D68F4CA9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CBC1A-958F-427D-A9C7-A50C900F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51F50-64E5-4234-8994-3F2CD4A9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95A2D-8155-437D-ACA5-8DDC07CA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C979B-11ED-4172-B742-A7B403CD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21923-8E35-4BE9-B705-5837E86E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5F7C-8AE2-4682-942A-7D3FC101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DE1CE-231E-490E-AC4A-31047960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93219-E54B-4094-8CE3-196A9C27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37533-9322-4975-805F-3A3A3F2C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D4792-8C2E-41CC-A3E7-BB9643AF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C470C-8621-48E2-A0A3-EC43CD42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55911-0262-4A76-A700-86E331D5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71730-FD29-4CB0-A35A-B7F694B7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3B0C89-05F2-43A3-A12D-9A029062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B2EB0A-102B-4B33-9B82-0F7E01C5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E5930-BC15-43B2-BAC0-5ACB7FAC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ba5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5160-C4CA-436C-BC7A-1AEDEFB88EBB}" type="slidenum">
              <a:rPr b="0" lang="en-US" sz="1600" spc="-1" strike="noStrike">
                <a:solidFill>
                  <a:srgbClr val="cba52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ba5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DA0C-E02E-4840-AB46-89229132FD0F}" type="slidenum">
              <a:rPr b="0" lang="en-US" sz="1600" spc="-1" strike="noStrike">
                <a:solidFill>
                  <a:srgbClr val="cba52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ba5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30CF-99DB-431F-9E68-91B6E82BE34A}" type="slidenum">
              <a:rPr b="0" lang="en-US" sz="1600" spc="-1" strike="noStrike">
                <a:solidFill>
                  <a:srgbClr val="cba52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ba5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09F5-397F-4105-B001-3F14582FF721}" type="slidenum">
              <a:rPr b="0" lang="en-US" sz="1600" spc="-1" strike="noStrike">
                <a:solidFill>
                  <a:srgbClr val="cba52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ba5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6941-5348-4681-B785-1117CB0DD850}" type="slidenum">
              <a:rPr b="0" lang="en-US" sz="1600" spc="-1" strike="noStrike">
                <a:solidFill>
                  <a:srgbClr val="cba52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ba5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8E15-3DCA-43A3-AFB2-80F28A75C6CE}" type="slidenum">
              <a:rPr b="0" lang="en-US" sz="1600" spc="-1" strike="noStrike">
                <a:solidFill>
                  <a:srgbClr val="cba52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ba5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F384-6F61-492A-810E-817BE5874011}" type="slidenum">
              <a:rPr b="0" lang="en-US" sz="1600" spc="-1" strike="noStrike">
                <a:solidFill>
                  <a:srgbClr val="cba52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44d2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ba5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6DF2-8C04-4E9D-A25A-1B0B3F730897}" type="slidenum">
              <a:rPr b="0" lang="en-US" sz="1600" spc="-1" strike="noStrike">
                <a:solidFill>
                  <a:srgbClr val="cba52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44d2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ba5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7133-B0A2-4A1D-8762-D71E80E7947E}" type="slidenum">
              <a:rPr b="0" lang="en-US" sz="1600" spc="-1" strike="noStrike">
                <a:solidFill>
                  <a:srgbClr val="cba52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ba5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612F-9272-40D0-926A-FEE2CBC69340}" type="slidenum">
              <a:rPr b="0" lang="en-US" sz="1600" spc="-1" strike="noStrike">
                <a:solidFill>
                  <a:srgbClr val="cba52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ABDD-35CE-4618-9F8E-E9238511B3E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ba5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661C-0185-45DA-9DC3-E690462A7A33}" type="slidenum">
              <a:rPr b="0" lang="en-US" sz="1600" spc="-1" strike="noStrike">
                <a:solidFill>
                  <a:srgbClr val="cba52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928800" y="281952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PROCUREMENT UNDER THE PROJEC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eorgia"/>
              </a:rPr>
              <a:t>National Electrification Project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87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Description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(main packages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5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Expected  quotations opening dat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ffice Furnit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uter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ffice Equipm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able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atellite Equipment for Interne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ebruary 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ebruary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ebruary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June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rch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Procurement of Goods under Shopping Method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Descriptio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Schedul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CB for Solar PV Systems for households, public institutions and street lights for 7 States/ Regions – Kayin, Chin, Sagaing, Tanintharyi, Rakhine, Shan and Ayeyawaddy (total 9 lots  in one ICB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6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CB for Mini-Grid System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dvertisement and Issue Bidding Document – January 2016 (tentativ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s Opening – March 2016 (tentativ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dvertise and Issue BD -October 2016 (tentativ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 Opening – December 2016 (tentativ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Supply and Installation of Goods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Description of Assignmen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Expected Proposals Submission Dat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MO Off-Grid Project Management Advisor (IC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onsultant to develop mini-hydro and mini-grid model (IC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onsultant to provide training on mini-hydro, solar, others technologies (Firm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ebruary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ctober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ebruary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lection of Consultants</a:t>
            </a:r>
            <a:br>
              <a:rPr sz="3000"/>
            </a:b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(main assignments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Description of Assignmen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5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Expected Proposals Submission Dat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Design and Implementation of Public Outreach and Information Campaigns (Firm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Establishing baseline for impact evaluation (Firm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olar PV Inspection and Verification Consultant (Firm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ebruary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ugust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rch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Selection of Consultant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Description of Assignmen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Expected Proposals Submission Dat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RD Solar Advisor (IC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IS Consultant (Firm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ebruary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rch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Selection of Consultant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0T07:40:50Z</dcterms:created>
  <dc:creator>AutoBVT</dc:creator>
  <dc:description/>
  <dc:language>en-US</dc:language>
  <cp:lastModifiedBy>Chaw Su Devi</cp:lastModifiedBy>
  <cp:lastPrinted>2015-11-23T04:16:27Z</cp:lastPrinted>
  <dcterms:modified xsi:type="dcterms:W3CDTF">2015-12-08T08:40:46Z</dcterms:modified>
  <cp:revision>23</cp:revision>
  <dc:subject/>
  <dc:title>National Electrification Project</dc:title>
</cp:coreProperties>
</file>